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5D5E-2886-4876-B303-D125DA195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13F8-84EB-4D71-A3B8-F8F01566D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1064-91A1-45CD-8297-5E279E160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6A80-01D7-4CFE-88F2-580CBF999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BFDD-A88A-4C1C-9F12-05F46CE15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6F53-C84E-4E7C-B482-1530E361D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8AD7-1272-4D67-8847-3ACD67377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0800-D408-463D-8708-2E9FCBEB3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B1C1-5F2E-49BF-9F47-C8F81DE51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4043-806E-400E-9AB4-6AE2E32D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76C6-9FAC-44ED-BE6C-73BDE0EF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2386-CA99-4429-B723-510B9E4F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33549-EC2A-42DF-BAE0-267661B90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7:08:58Z</dcterms:created>
  <dc:creator>CVJH-LAB</dc:creator>
  <dc:description/>
  <dc:language>en-US</dc:language>
  <cp:lastModifiedBy>CVJH-LAB</cp:lastModifiedBy>
  <dcterms:modified xsi:type="dcterms:W3CDTF">2008-02-20T17:51:40Z</dcterms:modified>
  <cp:revision>2</cp:revision>
  <dc:subject/>
  <dc:title>Slide 1</dc:title>
</cp:coreProperties>
</file>